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8CB4-0EDE-4404-96BF-E26DAFD88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F7EA-E08F-4A15-BD7D-99DF6E1D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14D0-8A8C-43E0-AAEE-4DECC0F87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AA9C-6487-46FF-96D2-9F93219B2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3302-9E24-46BB-8CD6-2666E5AA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E2A3-223A-4631-962C-DDEFBB97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176F-FCBF-4885-A349-A44E740D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2F20-A0F4-45CE-8802-6ABE635E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A221-6308-4748-9ABB-D553C08C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94EA-9105-4B44-BED4-85F20DC3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19BA-BF01-4F2C-801B-C07474F0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E382-C7BB-494D-B513-5B94808C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03EB-AE96-4B43-8178-5D1974CF7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1949358LYOhlaxbdf_ph" descr=""/>
          <p:cNvPicPr/>
          <p:nvPr/>
        </p:nvPicPr>
        <p:blipFill>
          <a:blip r:embed="rId1"/>
          <a:stretch/>
        </p:blipFill>
        <p:spPr>
          <a:xfrm>
            <a:off x="-190512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943600" y="0"/>
            <a:ext cx="3200400" cy="9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يا بيتَ لحمَ لقد سما  قدرٌ لكِ حتى السّ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فيكِ الإله تَجَسَّما    متأنِّساً من مَري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ea typeface="Arabic Transparent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ea typeface="Arabic Transparent"/>
              </a:rPr>
              <a:t>(لازمة) المجدُ لله في العُل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509911fsnmICxink_ph" descr=""/>
          <p:cNvPicPr/>
          <p:nvPr/>
        </p:nvPicPr>
        <p:blipFill>
          <a:blip r:embed="rId1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410080" y="457200"/>
            <a:ext cx="3429000" cy="60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عنه النبيُّ تكلّمَ  حقاً كما قد أُلهِ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قد تمَّ فيهِ اليومَ ما   قد قالَه متَرَنِّم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ea typeface="Arabic Transparent"/>
              </a:rPr>
              <a:t>(لازمة) </a:t>
            </a: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المجدُ لله في العُلى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513373bYanumaqWZ_ph" descr=""/>
          <p:cNvPicPr/>
          <p:nvPr/>
        </p:nvPicPr>
        <p:blipFill>
          <a:blip r:embed="rId1"/>
          <a:stretch/>
        </p:blipFill>
        <p:spPr>
          <a:xfrm>
            <a:off x="0" y="0"/>
            <a:ext cx="532764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15000" y="380880"/>
            <a:ext cx="3124080" cy="79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ذا ابنُ مريمَ قد ظَهَرْ  ربُّ الملائكِ والبَش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َن رابَهُ شكٌّ كَفَرْ    لا بُدَّ أن يتندَّ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(لازمة)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جدُ لله في العُلى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NBRSO032" descr=""/>
          <p:cNvPicPr/>
          <p:nvPr/>
        </p:nvPicPr>
        <p:blipFill>
          <a:blip r:embed="rId1"/>
          <a:stretch/>
        </p:blipFill>
        <p:spPr>
          <a:xfrm>
            <a:off x="0" y="0"/>
            <a:ext cx="55720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638680" y="304920"/>
            <a:ext cx="3505320" cy="83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هوَ مَن به تحيا النفوسْ   أو لاسمِهِ تُحنى الرؤوس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فإليهِ قد سَارَ المَجوسْ     والنجمُ كان المُعْلِما 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(لازمة) المجدُ لله في العُل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33872129HtdMxB_ph" descr=""/>
          <p:cNvPicPr/>
          <p:nvPr/>
        </p:nvPicPr>
        <p:blipFill>
          <a:blip r:embed="rId2"/>
          <a:stretch/>
        </p:blipFill>
        <p:spPr>
          <a:xfrm>
            <a:off x="0" y="0"/>
            <a:ext cx="5532480" cy="7467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867280" y="533520"/>
            <a:ext cx="2895840" cy="10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ا طفلُ نسألُك الرِّضى    فاغفرْ لنا ما قد مض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ُلطُفْ بنا يوم القضا      وَقِنا عذابَ جُهَّنَّما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(لازمة) المجدُ لله في العُل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09:04:38Z</dcterms:created>
  <dc:creator>SUZANNE.MD</dc:creator>
  <dc:description/>
  <dc:language>en-US</dc:language>
  <cp:lastModifiedBy>USER</cp:lastModifiedBy>
  <dcterms:modified xsi:type="dcterms:W3CDTF">2002-12-23T20:05:16Z</dcterms:modified>
  <cp:revision>1</cp:revision>
  <dc:subject/>
  <dc:title>PowerPoint Presentation</dc:title>
</cp:coreProperties>
</file>